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11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5.gif" ContentType="image/gif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D55D-7D20-4BA4-9361-52F9986E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115-80C3-4D69-8B0A-595DC041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FAE-EDC5-4D3E-AD48-73A888EC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F03-CAE3-4A6D-93DA-885C4DD1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A599-B411-417F-8CF7-2FB1CF45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554B-67CA-4406-B110-AB1AAD64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52FE-EE7A-415D-B843-A8D019DA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74B4-F748-40EF-85E5-4D9D9B09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5BBE-7E93-4AE8-899D-FE439EC9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0870-5F70-49AF-9792-7E27A068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9417-EC7A-491A-B651-327B10F6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BC1-4E07-47D6-BA5C-F44685E4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4447-0810-4092-8050-7F4735ED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6202-E64E-44E5-8D39-C3148589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EB69-853E-4F1A-AE26-7776AC73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52DD-9FC0-4409-BF65-0E5FC0A3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EEF7-5BD6-4876-A1EE-EE6CEBD3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B36-D4EC-4020-BF50-B001FBAA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F29-98C5-4B97-B415-99F82979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C708-B76E-48CC-B60C-AD9B9FA9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EF8-BFBC-4C84-BC9F-548EF43D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766-D944-4BA5-9BC0-F0FFE372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27A-4266-47E4-8CAD-AD7727BC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F0A-26AD-4F61-A910-102C09A7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9BEA-6A63-48FD-9FE6-22D2E1979387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2CEC-CFF7-4C58-A806-16B9758F2323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948360" y="549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891480" y="404640"/>
            <a:ext cx="2252520" cy="3024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539640" y="981000"/>
            <a:ext cx="5688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00cc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习惯决定命运</a:t>
            </a:r>
            <a:endParaRPr b="0" lang="en-US" sz="2400" spc="1" strike="noStrike">
              <a:ln w="19080">
                <a:solidFill>
                  <a:srgbClr val="00cc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0" name=""/>
          <p:cNvSpPr/>
          <p:nvPr/>
        </p:nvSpPr>
        <p:spPr>
          <a:xfrm>
            <a:off x="6119640" y="6237360"/>
            <a:ext cx="3024360" cy="287280"/>
          </a:xfrm>
          <a:prstGeom prst="rect">
            <a:avLst/>
          </a:prstGeom>
          <a:solidFill>
            <a:srgbClr val="cefee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</a:rPr>
              <a:t>高一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</a:rPr>
              <a:t>(1)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</a:rPr>
              <a:t>主题班会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587700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0" y="2924280"/>
            <a:ext cx="439272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最应养成的好习惯</a:t>
            </a:r>
            <a:endParaRPr b="1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692280"/>
            <a:ext cx="5040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对人有礼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礼貌用语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).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坚持锻炼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独立完成作业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讲卫生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爱护环境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集会时不喧哗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0" y="404640"/>
            <a:ext cx="3348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专家支招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732720" y="404640"/>
            <a:ext cx="2411280" cy="2737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851280" y="620640"/>
            <a:ext cx="2448000" cy="13669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fad2"/>
                </a:solidFill>
                <a:latin typeface="Verdana"/>
              </a:rPr>
              <a:t>先要建立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fad2"/>
                </a:solidFill>
                <a:latin typeface="Verdana"/>
              </a:rPr>
              <a:t>一个”规范”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2781360"/>
            <a:ext cx="1584360" cy="647640"/>
          </a:xfrm>
          <a:prstGeom prst="rect">
            <a:avLst/>
          </a:prstGeom>
          <a:solidFill>
            <a:srgbClr val="fdcff8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Verdana"/>
              </a:rPr>
              <a:t>做人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56000" y="299736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67280" y="2637000"/>
            <a:ext cx="1800000" cy="1081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Verdana"/>
              </a:rPr>
              <a:t>爱心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3860640"/>
            <a:ext cx="1584360" cy="574920"/>
          </a:xfrm>
          <a:prstGeom prst="rect">
            <a:avLst/>
          </a:prstGeom>
          <a:solidFill>
            <a:srgbClr val="fdcff8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Verdana"/>
              </a:rPr>
              <a:t>做事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0" y="400536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67280" y="3716280"/>
            <a:ext cx="1800000" cy="1081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Verdana"/>
              </a:rPr>
              <a:t>规则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5013360"/>
            <a:ext cx="1584360" cy="574560"/>
          </a:xfrm>
          <a:prstGeom prst="rect">
            <a:avLst/>
          </a:prstGeom>
          <a:solidFill>
            <a:srgbClr val="fdcff8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Verdana"/>
              </a:rPr>
              <a:t>学习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27280" y="515772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40360" y="4797360"/>
            <a:ext cx="1800000" cy="1081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Verdana"/>
              </a:rPr>
              <a:t>创新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516720" y="3213000"/>
            <a:ext cx="2627280" cy="32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6732720" cy="4597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 rot="5400000">
            <a:off x="6264000" y="1447560"/>
            <a:ext cx="309564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47000"/>
                  </a:srgbClr>
                </a:solidFill>
                <a:latin typeface="宋体"/>
              </a:rPr>
              <a:t>怎样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47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 rot="2112600">
            <a:off x="7019640" y="3860640"/>
            <a:ext cx="1800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476280"/>
            <a:ext cx="6443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rnd" w="1584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克服坏习惯</a:t>
            </a:r>
            <a:r>
              <a:rPr b="1" lang="en-US" sz="2400" spc="1" strike="noStrike">
                <a:ln cap="rnd" w="1584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1" lang="zh-CN" sz="2400" spc="1" strike="noStrike">
                <a:ln cap="rnd" w="1584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养成好习惯</a:t>
            </a:r>
            <a:endParaRPr b="1" lang="en-US" sz="2400" spc="1" strike="noStrike">
              <a:ln cap="rnd" w="1584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2200" y="1268280"/>
            <a:ext cx="8497800" cy="503280"/>
          </a:xfrm>
          <a:prstGeom prst="rect">
            <a:avLst/>
          </a:prstGeom>
          <a:solidFill>
            <a:srgbClr val="fdcff8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1.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重视别人的批评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2200" y="1989000"/>
            <a:ext cx="8497800" cy="503280"/>
          </a:xfrm>
          <a:prstGeom prst="rect">
            <a:avLst/>
          </a:prstGeom>
          <a:solidFill>
            <a:srgbClr val="fdcff8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从改变行为开始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2200" y="2637000"/>
            <a:ext cx="8497800" cy="502920"/>
          </a:xfrm>
          <a:prstGeom prst="rect">
            <a:avLst/>
          </a:prstGeom>
          <a:solidFill>
            <a:srgbClr val="fdcff8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用一种习惯代替另一种习惯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200" y="3429000"/>
            <a:ext cx="8497800" cy="503280"/>
          </a:xfrm>
          <a:prstGeom prst="rect">
            <a:avLst/>
          </a:prstGeom>
          <a:solidFill>
            <a:srgbClr val="fdcff8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4.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坚持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.(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养成一个习惯至少需要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21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天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2200" y="4292640"/>
            <a:ext cx="8497800" cy="503280"/>
          </a:xfrm>
          <a:prstGeom prst="rect">
            <a:avLst/>
          </a:prstGeom>
          <a:solidFill>
            <a:srgbClr val="fdcff8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5.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从家长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同学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老师中找一个监督者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2200" y="5157720"/>
            <a:ext cx="8497800" cy="503280"/>
          </a:xfrm>
          <a:prstGeom prst="rect">
            <a:avLst/>
          </a:prstGeom>
          <a:solidFill>
            <a:srgbClr val="fdcff8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6.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及时给予奖惩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 rot="120000">
            <a:off x="174600" y="401760"/>
            <a:ext cx="324180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我该怎做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492280"/>
          <a:ext cx="7859520" cy="3622680"/>
        </p:xfrm>
        <a:graphic>
          <a:graphicData uri="http://schemas.openxmlformats.org/drawingml/2006/table">
            <a:tbl>
              <a:tblPr/>
              <a:tblGrid>
                <a:gridCol w="3240000"/>
                <a:gridCol w="461952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要改正的习惯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我的誓言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时限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监督人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755640" y="1557360"/>
            <a:ext cx="7632720" cy="2531880"/>
          </a:xfrm>
          <a:prstGeom prst="rect">
            <a:avLst/>
          </a:prstGeom>
          <a:solidFill>
            <a:srgbClr val="cef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3300"/>
                </a:solidFill>
                <a:latin typeface="Verdana"/>
              </a:rPr>
              <a:t>想一想</a:t>
            </a:r>
            <a:r>
              <a:rPr b="1" i="1" lang="zh-CN" sz="8000" spc="-1" strike="noStrike">
                <a:solidFill>
                  <a:srgbClr val="ff3300"/>
                </a:solidFill>
                <a:latin typeface="Verdana"/>
              </a:rPr>
              <a:t>:</a:t>
            </a:r>
            <a:r>
              <a:rPr b="1" i="1" lang="zh-CN" sz="8000" spc="-1" strike="noStrike">
                <a:solidFill>
                  <a:srgbClr val="ff3300"/>
                </a:solidFill>
                <a:latin typeface="Verdana"/>
              </a:rPr>
              <a:t>我最需要改正的习惯是什么</a:t>
            </a:r>
            <a:r>
              <a:rPr b="1" i="1" lang="zh-CN" sz="8000" spc="-1" strike="noStrike">
                <a:solidFill>
                  <a:srgbClr val="ff3300"/>
                </a:solidFill>
                <a:latin typeface="Verdana"/>
              </a:rPr>
              <a:t>?</a:t>
            </a:r>
            <a:r>
              <a:rPr b="1" i="1" lang="zh-CN" sz="8000" spc="-1" strike="noStrike">
                <a:solidFill>
                  <a:srgbClr val="ff3300"/>
                </a:solidFill>
                <a:latin typeface="Verdana"/>
              </a:rPr>
              <a:t>我怎样才能做到</a:t>
            </a:r>
            <a:r>
              <a:rPr b="1" i="1" lang="zh-CN" sz="80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8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solidFill>
            <a:srgbClr val="fdcff8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许多需要的东西我们可以等待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但是学生不能等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他的骨骼正在形成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血液正在生成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心智正在发育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对学生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我们不能说明天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他的名字是今天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494080" y="2133720"/>
            <a:ext cx="4022640" cy="3527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68360" y="0"/>
            <a:ext cx="1581120" cy="1419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93080" y="0"/>
            <a:ext cx="1581120" cy="14191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920" y="2565360"/>
            <a:ext cx="8640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Verdana"/>
              </a:rPr>
              <a:t>最搞笑的人？最爱笑的人？声音最洪亮的人？胆子最大的人？最喜欢帮助别人的人？桌面抽屉最整洁的人？班级工作最负责任的人？上课举手最积极的人？最爱问老师的人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┄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95280" y="549360"/>
            <a:ext cx="417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评一评  </a:t>
            </a:r>
            <a:endParaRPr b="1" lang="en-US" sz="2400" spc="1" strike="noStrike">
              <a:ln w="15840">
                <a:solidFill>
                  <a:srgbClr val="00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    </a:t>
            </a:r>
            <a:r>
              <a:rPr b="1" lang="zh-CN" sz="24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比一比</a:t>
            </a:r>
            <a:endParaRPr b="1" lang="en-US" sz="2400" spc="1" strike="noStrike">
              <a:ln w="15840">
                <a:solidFill>
                  <a:srgbClr val="00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932360" y="476280"/>
            <a:ext cx="3887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班级之最</a:t>
            </a:r>
            <a:endParaRPr b="1" lang="en-US" sz="4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24000" y="333360"/>
            <a:ext cx="5832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习惯为什么重要</a:t>
            </a:r>
            <a:endParaRPr b="1" lang="en-US" sz="4000" spc="1" strike="noStrike">
              <a:ln w="1908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55640" y="242100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别人的思想</a:t>
            </a:r>
            <a:r>
              <a:rPr b="1" lang="en-US" sz="24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1" lang="zh-CN" sz="24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滋养我们的灵魂</a:t>
            </a:r>
            <a:endParaRPr b="1" lang="en-US" sz="24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11640" y="4797360"/>
            <a:ext cx="4392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格言警句交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60" y="297000"/>
            <a:ext cx="5003640" cy="62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华盛顿是美国历史上最令人尊敬的、堪称美德典范的总统，他的诚实故事家喻户晓。他从小看得最多的一本书，是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一本随身携带的小册子———《与人交谈和相处时必须遵循的文明礼貌规则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110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条》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。好习惯成就了一个伟大的总统和一个伟大的人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70224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378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一九八八年世界各国诺贝尔奖得主在巴黎聚会。有人问一位诺贝尔科学奖得主：“您在哪所大学、哪个实验室学到了您认为是最主要的东西呢？”这位白发苍苍的老学者回答道：“是幼儿园。”“在幼儿园能学到什么东西呢？”“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把自己的东西分一半给小伙伴们，不是自己的东西不要，东西放整齐，吃饭前要洗手，做错事要表示道歉，午饭后安安静静地休息，要观察周围的大自然……”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可见养成良好的行为习惯对一个人的成功影响是多么巨大！如果作为道德素养的最重要的真理在青少年时期没有成为习惯，那么，所造成的损失是永远无法弥补的。有人对一个人的良好行为习惯有过恰当的比喻――“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良好习惯乃是人在神经系统中存入的道德资本，这个资本不断地在增值，而人在其整个一生中就享受着它的利息。”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 中学时期是青少年生理、心理急剧发育、变化的重要时期，正是增长知识，接受良好道德品质和行为习惯养成教育的最佳时期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73656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2003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年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18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日下午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时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46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分，在武汉某高校研究生考点外，一考生被几个保安人员拦下，被告知超过了规定入场时间（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时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45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分），眼睁睁地失去了考试资格。一考生说，为了专心备考，他辞掉了网络公司的工作，牺牲了很多东西，到头来却因为这个缘故被拒之门外。在上海，也有考研生因为进不了考场而痛哭流涕，其中一位不断向老师苦苦哀求：“我为今年考研已经准备了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年，我很有信心考上，老师给我一次机会吧。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380360" y="5249880"/>
            <a:ext cx="1763640" cy="1608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47192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2007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年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日下午，广州</a:t>
            </a:r>
            <a:r>
              <a:rPr b="1" lang="zh-CN" sz="2800" spc="-1" strike="noStrike">
                <a:solidFill>
                  <a:srgbClr val="0000cc"/>
                </a:solidFill>
                <a:latin typeface="Verdana"/>
              </a:rPr>
              <a:t>市一位考生按照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准考证上注明的时间赶到考场参加英语考试，却被告之迟到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分钟，不能进场，无奈的母女二人在考点外痛哭。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19280" y="-387360"/>
            <a:ext cx="936360" cy="68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数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数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我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们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的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坏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习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惯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3132000" cy="3046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402080" cy="3235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0" y="549360"/>
            <a:ext cx="3510000" cy="2631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4356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6985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讲话不文明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言粗语秽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上课易走神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不喜自觉记笔记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随手丢弃垃圾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4.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抄作业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作弊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5.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乱穿马路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　　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1733760" cy="1486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3995640" y="2637000"/>
            <a:ext cx="460872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最应改正的坏习惯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50920" y="512640"/>
            <a:ext cx="1152360" cy="558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好</a:t>
            </a:r>
            <a:endParaRPr b="1" lang="en-US" sz="3200" spc="1" strike="noStrike">
              <a:ln w="22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习</a:t>
            </a:r>
            <a:endParaRPr b="1" lang="en-US" sz="3200" spc="1" strike="noStrike">
              <a:ln w="22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惯</a:t>
            </a:r>
            <a:r>
              <a:rPr b="1" lang="en-US" sz="32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,</a:t>
            </a:r>
            <a:endParaRPr b="1" lang="en-US" sz="3200" spc="1" strike="noStrike">
              <a:ln w="22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人</a:t>
            </a:r>
            <a:endParaRPr b="1" lang="en-US" sz="3200" spc="1" strike="noStrike">
              <a:ln w="22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生</a:t>
            </a:r>
            <a:endParaRPr b="1" lang="en-US" sz="3200" spc="1" strike="noStrike">
              <a:ln w="22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的</a:t>
            </a:r>
            <a:endParaRPr b="1" lang="en-US" sz="3200" spc="1" strike="noStrike">
              <a:ln w="22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财</a:t>
            </a:r>
            <a:endParaRPr b="1" lang="en-US" sz="3200" spc="1" strike="noStrike">
              <a:ln w="22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富</a:t>
            </a:r>
            <a:endParaRPr b="1" lang="en-US" sz="3200" spc="1" strike="noStrike">
              <a:ln w="22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52720" y="88920"/>
            <a:ext cx="6191280" cy="6769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619280" y="378000"/>
            <a:ext cx="7524720" cy="6100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1619280" y="404640"/>
            <a:ext cx="7524720" cy="604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14:25:4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4:29:29Z</dcterms:modified>
  <cp:revision>6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1</vt:r8>
  </property>
</Properties>
</file>